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type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F9B-6A8B-44E8-971B-9402CBD9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494-5574-43DB-8168-87696BA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B04-5948-4A86-991B-F628895A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A23-7A77-438B-99E0-3B757A80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3E2-4242-4126-88D5-9AC01182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8F09-F5FC-49A7-8B43-25A25FC3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C628-E285-49A4-8922-FD19302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E2ED-BB96-43C9-978E-21DA7B8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1BA-744B-4753-9EBE-3CACE00E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4655-A3C0-4662-95E6-F553605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E1B2-1C63-48FD-B649-55C34E11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275-EFF1-4AA9-B578-BCB1A2D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C5CA-163D-4014-B0D0-C7F9C40E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D318-2EA2-4F9F-8FED-7ACAC4F9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029E-0A12-427B-9BBA-468A81E3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4104-AFD7-4134-A790-04DA7313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956C-F3BF-427F-A967-4B25DA94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6C9-33BF-4676-BE51-709CC1A7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BCF-7263-4678-917D-0166A4B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659-EAAE-488B-B3FA-EB90E51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E3C-41E7-4099-83BC-CB7161F6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E405-91A0-4B8E-93B3-1754B6A4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D06-AD47-428F-BE02-2AB035D9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BD1-19A1-4130-B621-592247C1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A3AB-307A-442D-A18F-653487CABA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D5C-9D65-4AAE-8B93-04553CBF6D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98600" y="475452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2589120" cy="3457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2189160" cy="2438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07200" y="762120"/>
            <a:ext cx="550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58c"/>
                </a:solidFill>
                <a:latin typeface="Tahoma"/>
              </a:rPr>
              <a:t>vs.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1752480"/>
            <a:ext cx="754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é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s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abe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st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supier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375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43680" y="22860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Sab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02960" y="1752480"/>
            <a:ext cx="992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 to know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actual information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nformati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sé el número de teléfono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know how to do something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activity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sabe jugar al fútbol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75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752480"/>
            <a:ext cx="754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zco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e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í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m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st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ó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40458c"/>
                </a:solidFill>
                <a:latin typeface="Tahoma"/>
              </a:rPr>
              <a:t>conociero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25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99320" y="228600"/>
            <a:ext cx="47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40458c"/>
                </a:solidFill>
                <a:latin typeface="Tahoma"/>
              </a:rPr>
              <a:t>Conocer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81360" y="3144960"/>
            <a:ext cx="1800" cy="288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1360" y="3297240"/>
            <a:ext cx="180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2000" y="1752480"/>
            <a:ext cx="958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dicates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o know a person 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erson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Yo conozco al Sr. Ruiz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2. to be familiar with a place  (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ie...Paco conoce el parque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de atracciones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03800" y="425520"/>
            <a:ext cx="59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Cómo se dice en español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53640" y="1523880"/>
            <a:ext cx="621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 know how to play card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Paco knows the Fernandez family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a knows the addr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tina knows the city very well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y friends know how to do 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uisa knows the informa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1440" cy="3066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63400" y="191916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Yo sé jugar a las cartas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activi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3760" y="275760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Paco conoce a los Fernandez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ers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6480" y="3595680"/>
            <a:ext cx="68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a sabe la direc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440" y="4510080"/>
            <a:ext cx="77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artina conoce la ciudad muy bie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lac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1040" y="5348160"/>
            <a:ext cx="65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is amigos saben hacerlo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activity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05920" y="6186600"/>
            <a:ext cx="72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uisa sabe la información.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information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23:52:50Z</dcterms:created>
  <dc:creator>Saint John's Hgh School</dc:creator>
  <dc:description/>
  <dc:language>en-US</dc:language>
  <cp:lastModifiedBy>Jeff</cp:lastModifiedBy>
  <dcterms:modified xsi:type="dcterms:W3CDTF">2005-07-24T02:54:27Z</dcterms:modified>
  <cp:revision>17</cp:revision>
  <dc:subject/>
  <dc:title>PowerPoint Presentation</dc:title>
</cp:coreProperties>
</file>